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nomist.com/opinion/displayStory.cfm?story_id=13184655&amp;fsrc=nwlbtwfree&amp;source=most_commented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56204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EU Summit Fails</a:t>
            </a:r>
            <a:endParaRPr b="0" lang="en-US" sz="10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57480" y="6045120"/>
            <a:ext cx="10464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By Amy Ki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Stalemat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Western and Eastern Europe both are under a severe recess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Will Germany and other Western European countries have to recapitalize their banks?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If one country such as Hungary or one of the Baltic three went under, Western Europe would be among the first to suff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Wh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1.) Banks from Austria, Italy, and Sweden, have invested and lent heavily to Eastern Europ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2.) Destabilize the eur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3.) Social unrest among Eastern Europe as they turn to nationalist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For Exampl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Hungarian Prime Minister Ferenec Gyurcsany asked other EU governments to come up with a $125 billion rescue for banks that lent heavily in Eastern Europ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That Western states will shoulder these bank’s branches in the east.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How I Fee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I feel really sorry for Western Europe because they keep having to foot the bil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But.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I wish that they think of a solution because more countries are seeking help from IMF for funding. Also, I believe that European Nations need to start taking responsibility for themselve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Rel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69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1.) Alliances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-Western Europe HAS to help Eastern Europe (Unspoken understanding); just how much help is undecided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2.) Nationalism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-If Eastern Europe feels abandoned by Western Europe, then E.E. might turn to nationalist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-Western Europe doesn’t want to foot the bill for other countries while they are in their own economic crisi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3.) Treaty of Vienna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-If the EU makes Western Countries (Germany) pay for the Eastern EUropean Countries, then there will be more resentment and and ill will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Bibliograph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The risks of a bust-up in Europe | The bill that could break up Europe | The Economist.” 4 Mar 2009 &lt;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Bradley Hand ITC TT-Bold"/>
                <a:ea typeface="Bradley Hand ITC TT-Bold"/>
                <a:hlinkClick r:id="rId2"/>
              </a:rPr>
              <a:t>http://www.economist.com/opinion/displayStory.cfm?story_id=13184655&amp;fsrc=nwlbtwfree&amp;source=most_commented</a:t>
            </a: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&gt;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COMMENT: EU summit fails to come up with CEE goods - BUSINESS NEW EUROPE.” 4 Mar 2009 &lt;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radley Hand ITC TT-Bold"/>
                <a:ea typeface="Bradley Hand ITC TT-Bold"/>
              </a:rPr>
              <a:t>http://businessneweurope.eu/story1480</a:t>
            </a: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&gt;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EU Summit Fai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The weekend’s EU summit meeting in Brussels failed to deliver anything of importa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Whe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1st March, 2009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Who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725200" y="8925120"/>
            <a:ext cx="383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Eastern Europ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rcRect l="43223" t="4472" r="0" b="21701"/>
          <a:stretch/>
        </p:blipFill>
        <p:spPr>
          <a:xfrm>
            <a:off x="1511280" y="207180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183960" y="2601720"/>
            <a:ext cx="221832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Russ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Pol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Ukrai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Bulgar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Hunga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Alban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Georg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Roman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56400" y="8975880"/>
            <a:ext cx="403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Western Europ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rcRect l="7886" t="0" r="20024" b="9011"/>
          <a:stretch/>
        </p:blipFill>
        <p:spPr>
          <a:xfrm>
            <a:off x="1015920" y="247680"/>
            <a:ext cx="8128080" cy="8693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9080640" y="482760"/>
            <a:ext cx="39240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German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Fr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Spai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Portug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Gree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Luxembou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United Kingd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Finl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Swed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Austria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European Un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898640" y="1670040"/>
            <a:ext cx="9202680" cy="78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For The Rescue of Eastern Europe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2819520" y="2759040"/>
            <a:ext cx="7302240" cy="5500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340080" y="8204040"/>
            <a:ext cx="6273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For The Rescue of Eastern Europe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Wh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There is a stalemate in discussions and progress as Western European leaders seek to spend less on the bailo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Blackmoor LET"/>
                <a:ea typeface="Blackmoor LET"/>
              </a:rPr>
              <a:t>Proble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Western European countries are worrying that they will have to foot the bill for the Eastern European countr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